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27F-D581-4FE9-9A07-5116C1BC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2C8-1149-4A27-9851-3CCAB004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439-F6FF-4187-BBA7-CDBCE570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CE5-916D-471A-A2F0-FF979659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D51-A50B-4224-B6FD-DE16489E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8DD-3406-46BE-9946-76FAABBD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45F-BF1F-4F34-B6B8-4D2A682D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4CA-D4C5-47F7-BAB3-D60BCF8F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8D5-C02A-4BB1-9AE6-2F84D26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BCC-B58E-471F-BCBA-176B382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360-77D9-46B5-83B9-2C9A589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1C8-12DB-49D7-8E70-68338A5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0F21A594-D24F-4494-93DB-CE8C3129354B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2000" y="104713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f0a7c"/>
                </a:solidFill>
                <a:latin typeface="Arial"/>
              </a:rPr>
              <a:t>Volume II/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6:34Z</dcterms:modified>
  <cp:revision>54</cp:revision>
  <dc:subject/>
  <dc:title>Slide sem título </dc:title>
</cp:coreProperties>
</file>